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25369"/>
        <c:axId val="59207983"/>
      </c:barChart>
      <c:catAx>
        <c:axId val="5112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07983"/>
        <c:crosses val="autoZero"/>
        <c:auto val="1"/>
        <c:lblAlgn val="ctr"/>
        <c:lblOffset val="100"/>
        <c:noMultiLvlLbl val="0"/>
      </c:catAx>
      <c:valAx>
        <c:axId val="59207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868-0D5C-4849-82B9-0B1929E3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781-D8D5-48E4-AAD3-DA0F138A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2F5-00BA-4286-85CF-B1CB9A60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6D3-A818-4806-8837-33BBD18E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A81-CAED-46B3-A256-E6DC5E6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75-C6AB-4A70-AB03-1596C65B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CE4-C35F-4C67-B4F3-EE20039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5DB-F391-46D0-ADC6-FE7B061A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ED7-3E7E-49DC-972A-3FEFAB7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2FD-848F-45E1-B211-D17F303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C49-947E-46FD-881E-B754CD4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240-30C3-4762-8217-FFE258CA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31868-F48F-46C6-B12F-7A7710D09F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