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131919"/>
        <c:axId val="6252229"/>
      </c:barChart>
      <c:catAx>
        <c:axId val="811319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2229"/>
        <c:crosses val="autoZero"/>
        <c:auto val="1"/>
        <c:lblAlgn val="ctr"/>
        <c:lblOffset val="100"/>
        <c:noMultiLvlLbl val="0"/>
      </c:catAx>
      <c:valAx>
        <c:axId val="62522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1319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35A8-B0B0-4940-8874-F3FC8D82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4BEE-B014-4166-BE1B-A57029EF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2491-8592-45A6-A747-5FD8632E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E948-9D56-4215-A462-9FC4ECF86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674E-F1B8-4B83-8D85-2AB4ED4B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CB3E-A097-4FDB-8555-B61DD4FE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9D96-9324-4248-96AA-7E0802B7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993E-2D7E-480A-840E-5616F79F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F1C8-E177-4791-BF71-F96E2F89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1F51-BF1B-4897-8279-95C2BF59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6B1D-2EC9-4CEB-9B47-663D1966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872A-4F7D-48E5-B307-6388FAF3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925B9-480F-4CBF-A947-68301406AC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